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9.pct" ContentType="image/x-pict"/>
  <Override PartName="/ppt/media/image3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7.png" ContentType="image/png"/>
  <Override PartName="/ppt/media/image15.wmf" ContentType="image/x-wmf"/>
  <Override PartName="/ppt/media/image18.pct" ContentType="image/x-pict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F76D-199F-448C-A2A9-9191CAFD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70D4-258C-43D7-BF7D-6A87668CFC7C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  Rhyme Scheme group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8D0B-1C94-4A73-A8FB-E8717192493C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  Alliteration group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7E78-DB35-40DF-B5A6-34AB10EA7442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  Rhyme group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9BA-3A93-437D-80E9-6618BE28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8A1-06FC-4EDE-866F-A309786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411-9F27-45AE-97F5-46659F02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19F-BA8A-4838-A25C-A6893EE2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97D-FE8F-432B-AB8E-274A5821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EF49-970F-496D-8A0F-39D75ABA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CCB0-85A9-481A-9930-6D6F7540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E1AE-E727-4957-928A-26E34D5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3414-DCF9-4210-B5E8-35DD6DF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E687-B4B4-4B27-99FD-E1BD1ECC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597D-476C-4923-A6FA-FDC07981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C40-E51E-4BEC-968C-D27784D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9FC-8E86-46BA-A217-B2DF886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AF3-5B32-4735-8625-F1409668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98A3-D294-4A9D-80AF-2498DAF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1A22-D2C8-4FCD-9B4B-EDE96D0E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26D8-9952-47E0-8D7A-DE469652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69F-04AE-4731-8345-74B00A2C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6E9-0689-4925-BD80-5FE887B5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607-26F1-4897-A794-95E3E546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6C5-00F6-4CDD-8320-19DDEE76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4ED-4C01-465B-9ABC-D0E37D7D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A99-C8C5-464C-85A3-7E281532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A0E-BF42-4142-961F-2D0C4984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0B4-1664-4566-8DE6-89929666C9B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ED0A-5B19-43DF-9DA5-2EF9ECB3F0D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4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1981080" y="1752480"/>
            <a:ext cx="5486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ERNAL 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word inside a line rhymes with another word on the same lin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ce upon a midnight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drear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, while I pondered weak an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wear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From “The Raven”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by Edgar Allan Po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AR 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.k.a  imperfect rhyme, close rhym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words share EITHER the same vowel or consonant sound BUT NOT BOT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O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O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fferent vowel sounds (long “o” and “oo” soun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re the same consonant sou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HYME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rhyme scheme is a pattern of rhyme (usually end rhyme, but not always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the letters of the alphabet to represent sounds to be able to visually “see” the pattern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******************************************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 Your Own!  </a:t>
            </a:r>
            <a:r>
              <a:rPr b="0" lang="en-US" sz="2800" spc="-1" strike="noStrike">
                <a:solidFill>
                  <a:srgbClr val="402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ry and figure out the rhyme scheme in the sample poem.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AMPLE RHYME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6476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Germ   by Ogden Nas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mighty creature is the g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ough smaller than the pachyd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is customary dwelling pl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c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deep within the human r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ac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is childish pride he often pl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a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y giving people strange dis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ase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 you, my poppet, feel inf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i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You probably contain a g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rm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7086600" y="2514600"/>
            <a:ext cx="1143000" cy="40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SON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milar to alliteration EXCEPT . . 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repeated consonant sounds can be anywhere in the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“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lken,</a:t>
            </a:r>
            <a:r>
              <a:rPr b="0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, un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rtain, ru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ling . . “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SSON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peated VOWEL sounds in a line or lines of poetr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(Often creates near rhyme.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k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at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as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a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(All share the long “a” sound.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SSONANCE cont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s of ASSONANC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low the low gradual moan came in the snowing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ohn Masefiel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ll ever medicine thee to that sweet sleep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 William Shakespea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ME TYPES OF POETRY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E WILL BE STUDY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676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YRI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short po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ually written in first person point of vie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presses an emotion or an idea or describes a sce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 not tell a story and are often music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3733920" y="4876920"/>
            <a:ext cx="173340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IKU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Japanese poem written in three lin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ve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ven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ve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 old silent pond . .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frog jumps into the pon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plash!  Silence aga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3120" y="182880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type of literature that expresses ideas, feelings, or tells a story  in a specific form (usually using lines and stanza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</a:rPr>
              <a:t>CINQUAIN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five line poem containing 22 syll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wo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ur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x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ight Syllab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wo Syllable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1936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w frai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bove the bul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f crashing water han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utumnal, evanescent, wa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moo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6633"/>
                </a:solidFill>
                <a:latin typeface="Times New Roman"/>
              </a:rPr>
              <a:t>SHAKESPEAREAN SONNET</a:t>
            </a:r>
            <a:endParaRPr b="0" lang="en-US" sz="43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A fourteen line poem with a specific rhyme scheme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The poem is written in three quatrains and ends with a couplet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The rhyme scheme i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bab   cdcd   efef   g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hall I compare thee to a summer’s day?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Thou art more lovely and more temperat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Rough winds do shake the darling buds of May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summer’s lease hath all too short a dat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ometimes too hot the eye of heaven shines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often is his gold complexion dimmed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every fair from fair sometimes declines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By chance or nature’s changing course untrimmed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But thy eternal summer shall not fad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Nor lose possession of that fair thou ow’st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Nor shall Death brag thou wanderest in his shade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When in eternal lines to time thou grow’s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o long as men can breathe or eyes can see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o long lives this, and this gives life to the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ARRATIVE POEM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poem that tells a stor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enerally longer than the lyric styles of poetry because the poet needs to establish characters and a plo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amples of Narrative Poem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Rave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Highwayman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asey at the Bat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Walrus and the Carpenter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CRETE POEM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concrete poems, the words are arranged to create a picture that relates to the content of the poe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Poet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s like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ames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Which a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wift and elusiv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odging realiza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parks, like words o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Paper, leap and dance i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ickering firelight.  The fie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ongues, formless and shift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hapes, tease the imaginatio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Yet for those who see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rough their mind’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ye, they bur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Up the pag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REE VERSE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nlike metered poetry, free verse poetry does NOT have any repeating patterns of stressed and unstressed syllabl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oes NOT have rhym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ree verse poetry is very conversational - sounds like someone talking with you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more modern type of poetr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LANK VERSE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ten in lines of iambic pentameter, but does NOT use end rhym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ambic Pentameter is an unstressed syllable followed by a stressed syllabl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Julius Ceas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owards die many times before their deaths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valiant never taste of death but onc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f all the wonders that I yet have heard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t seems to me most strange that men should fear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eing that death, a necessary end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ill come when it will com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192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FIGURATIVE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ANGUAGE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IC DEVI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1676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IMI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parison of two things using “like” or “as”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e is as beautiful as a sunrise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Program Files\Microsoft Office\Clipart\standard\stddir2\BD08078_.WMF"/>
          <p:cNvPicPr/>
          <p:nvPr/>
        </p:nvPicPr>
        <p:blipFill>
          <a:blip r:embed="rId2"/>
          <a:stretch/>
        </p:blipFill>
        <p:spPr>
          <a:xfrm>
            <a:off x="3733920" y="4648320"/>
            <a:ext cx="2133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ETAPH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direct comparison of two unlike th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 the world’s a stage, and we are merely players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 William Shakespea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Program Files\Microsoft Office\Clipart\standard\stddir1\BD05103_.WMF"/>
          <p:cNvPicPr/>
          <p:nvPr/>
        </p:nvPicPr>
        <p:blipFill>
          <a:blip r:embed="rId2"/>
          <a:stretch/>
        </p:blipFill>
        <p:spPr>
          <a:xfrm>
            <a:off x="1600200" y="4572000"/>
            <a:ext cx="2666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ENDED METAPH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A comparison between two unlike things that continues throughout a series of sentences in a paragraph or lines in a poem. An extended metaphor may go on for several lines or possible the entire length of a work. The extended metaphor may act as a central theme, for example where it is used as the primary vehicle of a poem and is used repeatedly and in different forms.                        </a:t>
            </a: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“Hope”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Times New Roman"/>
              </a:rPr>
              <a:t>by Emily Dickens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Hope is the thing with feathers 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                                That perches in the soul,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 And sings the tune--without the words, And never stops at all, 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And sweetest in the gale is heard; And sore must be the storm That could abash the little bird That kept so many warm. 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've heard it in the chillest land, And on the strangest sea; Yet, never, in extremity,                                       It asked a crumb of me.     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4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Calisto MT"/>
                <a:ea typeface="Calisto MT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INT OF VIEW IN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poet is the author of the poe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PEAK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speaker of the poem is the “narrator” of the poem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77320" y="54864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TENDED METAPHOR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           POE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aming Poetry”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Author Unknown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Poet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s lik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ames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which ar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wift and elusiv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dodging realizatio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parks, like words o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paper, leap and dance in th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flickering firelight.  The fier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ongues, formless and shift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hapes tease the imagination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Yet for those who see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rough their mind'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ye, they bur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up the page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01000" y="380880"/>
          <a:ext cx="6667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38088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PLIED METAPH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comparison is hinted at but not clearly state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xamples: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Golden baked skin”, comparing bakery goods to skin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Green blades of nausea”, comparing green grass to the pallor of a nausea-stic person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Leafy golden sunset” comparing the sunset to a tree in the fall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The poison sacs of the town began to manufacture venom, and the town swelled and puffed with the pressure of it.” from </a:t>
            </a:r>
            <a:r>
              <a:rPr b="0" lang="en-US" sz="1600" spc="-1" strike="noStrike" u="sng">
                <a:solidFill>
                  <a:srgbClr val="402000"/>
                </a:solidFill>
                <a:uFillTx/>
                <a:latin typeface="Times New Roman"/>
              </a:rPr>
              <a:t>The Pearl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by John Steinbec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5" name="Picture 4" descr="C:\Program Files\Microsoft Office\Clipart\standard\stddir1\BD05208_.WMF"/>
          <p:cNvPicPr/>
          <p:nvPr/>
        </p:nvPicPr>
        <p:blipFill>
          <a:blip r:embed="rId1"/>
          <a:stretch/>
        </p:blipFill>
        <p:spPr>
          <a:xfrm>
            <a:off x="6781680" y="5105520"/>
            <a:ext cx="205740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8001000" y="380880"/>
          <a:ext cx="66672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38088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YPERBO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ggeration often used for emphasi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xamples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 am so hungry; I could eat a horse! 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I am hungry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se books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weigh a ton (They are heavy.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'm 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doing over 9,000 things right now. (I'm busy.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is cat smells like 50,000,000 years worth of spoiled milk!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402000"/>
                </a:solidFill>
                <a:latin typeface="Times New Roman"/>
              </a:rPr>
              <a:t>The cat smells bad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DIO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 expression where the literal meaning of the words is not the meaning of the expression.  It means something other than what it actually say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.  It’s raining cats and dog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ERSONIFIC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 animal given human-like qualities or an object given life-like qualiti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81280" y="1600200"/>
            <a:ext cx="5181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Opportunity knocked on the do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he sun greeted me this morning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Snow had wrapped a white blanket over the cit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ime never waits for anyon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rees were dancing with the wi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he TV sprang to lif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The picture in that magazine shouted for attentio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* Sun was playing hide and seek, amidst the clouds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NOMATOPOE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that imitate the sound they are na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UZ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R sounds that imitate another sou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lken,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, un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rtain, ru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ling of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ach purple curtain . . 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14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ITER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onsonan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sounds repeated at the beginnings of 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ter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per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ed a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ck of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le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ppers, how many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le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ppers did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ter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per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ck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18176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a person, place, thing, or event that has meaning in itself also represents, or stands for, something el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52880" y="18284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=    Innocence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=      Americ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=          Peace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Program Files\Microsoft Office\Clipart\standard\stddir4\SO00962_.wmf"/>
          <p:cNvPicPr/>
          <p:nvPr/>
        </p:nvPicPr>
        <p:blipFill>
          <a:blip r:embed="rId2"/>
          <a:stretch/>
        </p:blipFill>
        <p:spPr>
          <a:xfrm>
            <a:off x="5105520" y="1981080"/>
            <a:ext cx="1420560" cy="1616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Program Files\Microsoft Office\Clipart\standard\stddir1\AN02608_.wmf"/>
          <p:cNvPicPr/>
          <p:nvPr/>
        </p:nvPicPr>
        <p:blipFill>
          <a:blip r:embed="rId3"/>
          <a:stretch/>
        </p:blipFill>
        <p:spPr>
          <a:xfrm>
            <a:off x="4952880" y="3276720"/>
            <a:ext cx="183672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:\Program Files\Microsoft Office\Clipart\Pub60Cor\SO00190_.wmf"/>
          <p:cNvPicPr/>
          <p:nvPr/>
        </p:nvPicPr>
        <p:blipFill>
          <a:blip r:embed="rId4"/>
          <a:stretch/>
        </p:blipFill>
        <p:spPr>
          <a:xfrm>
            <a:off x="4724280" y="4572000"/>
            <a:ext cx="20638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LLU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lusion comes from the verb “allude” which means “to refer to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 allusion is a reference to something famou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 tunnel walled and overlai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ith dazzling crystal:  we had rea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f rare Aladdin’s wondrous cave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d to our own his name we gav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“Snowbound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ohn Greenleaf Whitti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MAGE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uthor’s use of words to create mental pictures or images that communicate experience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ＭＳ Ｐゴシック"/>
              </a:rPr>
              <a:t>Language that appeals to the sense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ost images are visual, but they can also appeal to the senses of sound, touch, taste, or smell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Example: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666720" cy="984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2743200" y="41911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9601200" y="4267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209680" y="441972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n with cracked hands that ach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labor in the weekday weather . . 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 “Those Winter Sundays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ETRY FORM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 - the appearance of the words on the pa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INE -  a group of words together on one line of the po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TANZA - a group of lines arranged togeth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word is de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 it is said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me sa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 say it ju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egins to liv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at day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841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Poetry Matter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44" name="55:Users:proundy:Desktop:Poetry_Matters.mov" descr=""/>
          <p:cNvPicPr/>
          <p:nvPr/>
        </p:nvPicPr>
        <p:blipFill>
          <a:blip r:embed="rId1"/>
          <a:stretch/>
        </p:blipFill>
        <p:spPr>
          <a:xfrm>
            <a:off x="2844720" y="23623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2133720" y="56386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ita Dove, Poet Laureate of the United States 1993-199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001000" y="380880"/>
          <a:ext cx="66672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38088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143000" y="457200"/>
          <a:ext cx="666720" cy="9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457200"/>
                    <a:ext cx="666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YOUR Thoughts on Poetry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907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your writer’s notebook, answer the following questions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your own words, what is poetry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o is your favorite poe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is your favorite poem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 are your reasons for your like or dislike of poetry? Explai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et’s Try It!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NALYZING POET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53" name="55:Users:proundy:Desktop:fast_car.mp3" descr=""/>
          <p:cNvPicPr/>
          <p:nvPr/>
        </p:nvPicPr>
        <p:blipFill>
          <a:blip r:embed="rId1"/>
          <a:stretch/>
        </p:blipFill>
        <p:spPr>
          <a:xfrm>
            <a:off x="6477120" y="838080"/>
            <a:ext cx="2423880" cy="11113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1676520" y="1676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ast Cars” by Tracy Chapm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3200400" cy="39639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0"/>
          <p:cNvSpPr/>
          <p:nvPr/>
        </p:nvSpPr>
        <p:spPr>
          <a:xfrm>
            <a:off x="6095880" y="28954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952880" y="2286000"/>
            <a:ext cx="32004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KINDS OF STANZ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uple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two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riplet (Tercet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three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atrai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four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inte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five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stet (Sextet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six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pte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seven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ctav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 eight line stanz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sound, word, phrase or line repeated regularly in a poe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Quoth the raven, ‘Nevermore.’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8097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HYTH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2155680"/>
            <a:ext cx="3809880" cy="3461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beat created by the sounds of the words in a poe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hythm can be created by meter, rhyme, alliteration and refra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ords sound alike because they share the same ending vowel and consonant sound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A word always rhymes with itself.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AMP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TAMP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re the short “a” vowel sou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re the combined “mp” consonant sou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ND RHY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word at the end of one line rhymes with a word at the end of another l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ector the Collec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llected bits of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llected dolls with broken hea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d rusty bells that would not </a:t>
            </a:r>
            <a:r>
              <a:rPr b="1" i="1" lang="en-US" sz="3200" spc="-1" strike="noStrike" u="sng">
                <a:solidFill>
                  <a:srgbClr val="402000"/>
                </a:solidFill>
                <a:uFillTx/>
                <a:latin typeface="Times New Roman"/>
              </a:rPr>
              <a:t>ring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48720" y="457200"/>
            <a:ext cx="66672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1:05:41Z</dcterms:created>
  <dc:creator>Lynn Dieter</dc:creator>
  <dc:description/>
  <dc:language>en-US</dc:language>
  <cp:lastModifiedBy>Philip  Roundy</cp:lastModifiedBy>
  <dcterms:modified xsi:type="dcterms:W3CDTF">2009-03-29T01:54:48Z</dcterms:modified>
  <cp:revision>32</cp:revision>
  <dc:subject/>
  <dc:title>POETRY</dc:title>
</cp:coreProperties>
</file>